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1722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s and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atabase Systems Lecture 14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Natasha Alechin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ransactions should be durable, but we cannot prevent all sorts of failure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ystem crash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Power failur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sk crash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User mistak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abotag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atural disaster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evention is better than cur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liable O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UPS and surge protector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AID array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n’t protect against everything thoug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he Transaction Log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ransaction log records the details of all transact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y changes the transaction makes to the databas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How to undo these chang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n transactions complete and h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log is stored on disk, not in memor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f the system crashes it is preserv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rite ahead log ru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entry in the log must be made before COMMIT processing can complet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ystem Failure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ystem failure means all running transactions are affect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oftware crash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Power failur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physical media (disks) are not damag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t various times a DBMS takes a checkpoi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ll committed transactions are written to dis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record is made (on disk) of the transactions that are currently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ypes of Transaction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665440" y="55627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st 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55627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ystem Failu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1828800"/>
            <a:ext cx="0" cy="36576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1828800"/>
            <a:ext cx="0" cy="36576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334120"/>
            <a:ext cx="7315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2860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895480"/>
            <a:ext cx="2590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3505320"/>
            <a:ext cx="5029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41148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724280"/>
            <a:ext cx="2057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2096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2096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8195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8195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42900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0384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0384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4648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1360" y="20685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7560" y="2666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0360" y="32767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4080" y="38862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2160" y="4495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ystem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transaction that was running at the time of failure needs to be undone and restart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transactions that committed since the last checkpoint need to be redone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ransactions of type T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need no recover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ransactions of type T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or T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need to be undone and restarted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ransactions of type T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or T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need to be redon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UNDO and REDO: lists of transac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UNDO = all transactions running at the last checkpoin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DO = empt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or each entry in the log, starting at the last checkpoin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f a BEGIN TRANSACTION entry is found for 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dd T to UNDO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f a COMMIT entry is found for 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ove T from UNDO to REDO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7315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63760" y="204624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6376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624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7200" y="1828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438280"/>
            <a:ext cx="2590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7560" y="2209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2819520"/>
            <a:ext cx="49528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74320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6680" y="25909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2004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4080" y="2971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581280"/>
            <a:ext cx="2057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505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02160" y="3352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33640" y="3745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33640" y="3745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2240" y="4583160"/>
            <a:ext cx="275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3320" y="51166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O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676520"/>
            <a:ext cx="0" cy="4647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800600"/>
            <a:ext cx="3863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st 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e transactions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733920"/>
            <a:ext cx="7315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63760" y="204624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6376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1624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7200" y="1828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2438280"/>
            <a:ext cx="2590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7560" y="2209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2819520"/>
            <a:ext cx="49528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274320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6680" y="25909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2004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64080" y="2971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3581280"/>
            <a:ext cx="2057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505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02160" y="3352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3640" y="3745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33640" y="3745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2240" y="4583160"/>
            <a:ext cx="275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3320" y="51166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O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1676520"/>
            <a:ext cx="0" cy="4647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4800600"/>
            <a:ext cx="3863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4 Begi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d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UND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733920"/>
            <a:ext cx="7315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204624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6376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624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7200" y="1828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438280"/>
            <a:ext cx="2590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7560" y="2209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2819520"/>
            <a:ext cx="49528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274320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6680" y="25909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32004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4080" y="2971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581280"/>
            <a:ext cx="2057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505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2160" y="3352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33640" y="3745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33640" y="3745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2240" y="4583160"/>
            <a:ext cx="275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3320" y="51166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O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1676520"/>
            <a:ext cx="0" cy="4647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800600"/>
            <a:ext cx="3864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gi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d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UND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733920"/>
            <a:ext cx="7315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63760" y="204624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6376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1624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7200" y="1828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2438280"/>
            <a:ext cx="2590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7560" y="2209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2819520"/>
            <a:ext cx="49528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274320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6680" y="25909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32004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64080" y="2971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3581280"/>
            <a:ext cx="2057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3505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2160" y="3352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33640" y="3745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33640" y="3745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2240" y="4583160"/>
            <a:ext cx="275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7640" y="5116680"/>
            <a:ext cx="136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1676520"/>
            <a:ext cx="0" cy="4647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80120" y="4800600"/>
            <a:ext cx="3863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Commit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ve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RED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In This Lecture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Transaction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Recover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System and Media Failur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Concurrenc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Concurrency problem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For more information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Connolly and Begg chapter 2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llman and Widom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 Recover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1828800"/>
            <a:ext cx="0" cy="205740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733920"/>
            <a:ext cx="7315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63760" y="204624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6376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16240" y="196992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7200" y="1828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438280"/>
            <a:ext cx="2590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7560" y="2209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819520"/>
            <a:ext cx="49528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274320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6680" y="25909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3200400"/>
            <a:ext cx="1752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64080" y="29718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3581280"/>
            <a:ext cx="2057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3505320"/>
            <a:ext cx="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2160" y="33526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33640" y="3745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33640" y="3745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2240" y="4583160"/>
            <a:ext cx="275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2680" y="5116680"/>
            <a:ext cx="167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O: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1676520"/>
            <a:ext cx="0" cy="4647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4876920"/>
            <a:ext cx="2209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Commit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ve T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RED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Forwards and Backward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ackwards recover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e need to undo some transac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orking backwards through the log we undo any operation by a transaction on the UNDO lis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s returns the database to a consistent stat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rwards recover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ome transactions need to be redon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orking forwards through the log we redo any operation by a transaction on the REDO lis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s brings the database up to dat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Media Failure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ystem failures are not too sever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nly information since the last checkpoint is affec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s can be recovered from the transaction lo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dia failures (disk crashes etc) are more seriou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data stored to disk is damag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transaction log itself may be damag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Backup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ackups are needed to recover from media failur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transaction log and entire contents of the database is written to secondary storage (often tape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ime consuming, and often requires down tim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ackups frequenc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equent enough that little information is los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t so frequent as to cause problem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very day (night) is 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ackup storag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Recovery from Media Failure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Restore the database from the last backup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the transaction log to redo any changes made since the last backup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f the transaction log is damaged you can’t do step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ore the log on a separate physical device to the databas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risk of losing both is then reduc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ncurrenc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 databases are used by many peop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any transactions to be run on the databas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t is desirable to let them run at the same time as each oth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eed to preserve isol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If we don’t allow for concurrency then transactions are run sequenti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Have  a queue of transac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Long transactions (eg backups) will make others wait for long peri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ncurrency Problem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order to run transactions concurrently we interleave their operat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ransaction gets a share of the computing ti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s leads to several sorts of problem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Lost updat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Uncommitted updat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ncorrect analy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arise because isolation is broke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Lost Update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1 and T2 read X, both modify it, then both write it ou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net effect of T1 and T2 should be no change on 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nly T2’s change is seen, however, so the final value of X has increased by 5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133720"/>
            <a:ext cx="3857400" cy="3751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T1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X = X - 5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X = X + 5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Write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Write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COM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COM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2133720"/>
            <a:ext cx="0" cy="3809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Uncommitted Update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2 sees the change to X made by T1, but T1 is rolled back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hange made by T1 is undone on rollbac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t should be as if that change never happen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2133720"/>
            <a:ext cx="3857400" cy="3751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T1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X = X - 5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Write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X = X + 5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Write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OLLBAC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COM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2133720"/>
            <a:ext cx="0" cy="37335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Inconsistent analysi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1 doesn’t change the sum of X and Y, but T2 sees a chang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1 consists of two parts – take 5 from X and then add 5 to 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2 sees the effect of the first, but not the secon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2120760"/>
            <a:ext cx="3857400" cy="4117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T1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X = X - 5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Write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X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um = X+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ad(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Y = Y + 5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Write(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2120760"/>
            <a:ext cx="0" cy="41148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48656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transaction is an action, or a series of actions, carried out by a single user or an application program, which reads or updates the contents of a databas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Next Lecture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Concurrenc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Locks and resourc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Deadloc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Serialis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Schedules of transact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Serial &amp; serialisable schedu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For more information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Connolly and Begg chapter 2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llman and Widom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ransactions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transaction is a ‘logical unit of work’ on a databas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ach transaction does something in the databas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part of it alone achieves anything of use or interes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ransactions are the unit of recovery, consistency, and integrity as wel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CID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tomicit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onsistenc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sol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urabilit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tomicity and Consistenc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tomicit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ransactions are atomic – they don’t have parts (conceptually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’t be executed partially; it should not be detectable that they interleave with another transaction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sistenc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ransactions take the database from one consistent state into anoth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n the middle of a transaction the database might not be consisten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Isolation and Durability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ol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effects of a transaction are not visible to other transactions until it has comple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outside the transaction has either happened or no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o me this actually sounds like a consequence of atomicity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urabilit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nce a transaction has completed, its changes are made permanen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ven if the system crashes, the effects of a transaction must remain in plac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Example of transaction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ransfer £50 from account A to account B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ad(A)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= A - 50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rite(A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ad(B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 = B+50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rite(B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tomicity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- shouldn’t take money from A without giving it to B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sistency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- money isn’t lost or gain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olation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- other queries shouldn’t see A or B change until comple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urability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- the money does not go back to A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2852640"/>
            <a:ext cx="432000" cy="2232000"/>
          </a:xfrm>
          <a:custGeom>
            <a:avLst/>
            <a:gdLst>
              <a:gd name="textAreaLeft" fmla="*/ 0 w 432000"/>
              <a:gd name="textAreaRight" fmla="*/ 155880 w 432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371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transac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The Transaction Manager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ransaction manager enforces the ACID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t schedules the operations of transac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OMMIT and ROLLBACK are used to ensure atomicity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Locks or timestamps are used to ensure consistency and isolation for concurrent transactions (next lectures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log is kept to ensure durability in the event of system failure (this lecture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MIT and ROLLBACK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IT signals the successful end of a transac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y changes made by the transaction should be sav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se changes are now visible to other transac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ROLLBACK signals the unsuccessful end of a transac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y changes made by the transaction should be undon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t is now as if the transaction never exis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nsactions and Reco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2:55:28Z</dcterms:created>
  <dc:creator>School of Computer Science &amp; IT</dc:creator>
  <dc:description/>
  <dc:language>en-US</dc:language>
  <cp:lastModifiedBy>nza</cp:lastModifiedBy>
  <dcterms:modified xsi:type="dcterms:W3CDTF">2008-03-10T08:59:40Z</dcterms:modified>
  <cp:revision>20</cp:revision>
  <dc:subject/>
  <dc:title>PowerPoint Presentation</dc:title>
</cp:coreProperties>
</file>